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D5E-5E78-47EA-9550-2AFF3BAE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7CC-E176-4743-B221-53AD3D8D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14F-B8A6-4088-B912-5B94D557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8F0C-2AD4-480E-8C69-F750303A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26A-271D-4A28-BF97-B9D7C36A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2C5-B3BC-4AD4-97A3-3759F904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8BA-A30C-4903-B162-B00A68BA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0967-01CB-4ECE-B0DC-E12CB37D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946-9D1E-469F-BC02-30DF63AB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FB17-16AA-45BE-B5F0-C71333EE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7D39-B226-4D81-821D-2046281E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E5A-6873-4284-BC55-0A3137D8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5F12-EE3C-46A9-818C-362DB5EAC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omic Sans MS"/>
              </a:rPr>
              <a:t>Los color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92360" y="213372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Noughts &amp; Cros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404640"/>
          <a:ext cx="8218440" cy="6264360"/>
        </p:xfrm>
        <a:graphic>
          <a:graphicData uri="http://schemas.openxmlformats.org/drawingml/2006/table">
            <a:tbl>
              <a:tblPr/>
              <a:tblGrid>
                <a:gridCol w="2530440"/>
                <a:gridCol w="2879640"/>
                <a:gridCol w="2808360"/>
              </a:tblGrid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971640" y="981000"/>
            <a:ext cx="1439640" cy="935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08360" y="981000"/>
            <a:ext cx="1440000" cy="9352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300720" y="981000"/>
            <a:ext cx="1440000" cy="935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068640"/>
            <a:ext cx="1440000" cy="93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08360" y="3068640"/>
            <a:ext cx="1440000" cy="93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2360" y="3068640"/>
            <a:ext cx="143964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5157720"/>
            <a:ext cx="1439640" cy="93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157720"/>
            <a:ext cx="1439640" cy="93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5229360"/>
            <a:ext cx="1440000" cy="93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ching Col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333360"/>
            <a:ext cx="1439640" cy="934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484280"/>
            <a:ext cx="1439640" cy="9349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08280"/>
            <a:ext cx="143964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1439640" cy="93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157720"/>
            <a:ext cx="1439640" cy="9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4360" y="404640"/>
            <a:ext cx="144000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1628640"/>
            <a:ext cx="1439640" cy="93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36000" y="2924280"/>
            <a:ext cx="1439640" cy="93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6000" y="4149720"/>
            <a:ext cx="1439640" cy="93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6000" y="5445000"/>
            <a:ext cx="1439640" cy="935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6426360"/>
            <a:ext cx="1439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l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5661000"/>
            <a:ext cx="1224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508464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ma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443700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789360"/>
            <a:ext cx="1584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3141720"/>
            <a:ext cx="1368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1844640"/>
            <a:ext cx="1368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1125360"/>
            <a:ext cx="1584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r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549360"/>
            <a:ext cx="16574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95640" y="2421000"/>
            <a:ext cx="1150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8:49:42Z</dcterms:created>
  <dc:creator>Helen</dc:creator>
  <dc:description/>
  <dc:language>en-US</dc:language>
  <cp:lastModifiedBy>Helen</cp:lastModifiedBy>
  <dcterms:modified xsi:type="dcterms:W3CDTF">2009-04-29T08:50:01Z</dcterms:modified>
  <cp:revision>1</cp:revision>
  <dc:subject/>
  <dc:title>Los colores</dc:title>
</cp:coreProperties>
</file>